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203F-5D84-4CD2-96D6-BB1F9EF0A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F6AE-FB38-4862-B3F1-52DFF5EAE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8E8D-D228-4F83-8577-189D4282F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55B7-43BF-4392-92E9-D6A7CF837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798E-1CE4-4E9F-B19F-A1A61504A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FAED-C679-49C0-B545-A8BFD70E7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E974-C213-47B3-8147-512E51D2A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78C2-545C-4397-8218-DED0DF7E2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8810-928E-4BB2-A4F0-B97F24ED7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D2E1-2F52-470C-928C-B9D82132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65B8-2222-4E0E-B575-7B2AA2CF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FE90-0543-4FA0-B849-B24CD0AD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3F49B-D777-476F-9A82-EF9D8EF054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Pedigre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3120" y="3517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cing a Trait in a Fam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Pedigree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65200" y="3902040"/>
            <a:ext cx="2025720" cy="66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r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husband &amp; wif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88880" y="3875040"/>
            <a:ext cx="1695240" cy="2122200"/>
            <a:chOff x="488880" y="3875040"/>
            <a:chExt cx="1695240" cy="2122200"/>
          </a:xfrm>
        </p:grpSpPr>
        <p:sp>
          <p:nvSpPr>
            <p:cNvPr id="46" name=""/>
            <p:cNvSpPr/>
            <p:nvPr/>
          </p:nvSpPr>
          <p:spPr>
            <a:xfrm>
              <a:off x="1077840" y="41464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488880" y="3875040"/>
              <a:ext cx="1695240" cy="2122200"/>
              <a:chOff x="488880" y="3875040"/>
              <a:chExt cx="1695240" cy="2122200"/>
            </a:xfrm>
          </p:grpSpPr>
          <p:sp>
            <p:nvSpPr>
              <p:cNvPr id="48" name=""/>
              <p:cNvSpPr/>
              <p:nvPr/>
            </p:nvSpPr>
            <p:spPr>
              <a:xfrm>
                <a:off x="660960" y="3951000"/>
                <a:ext cx="405360" cy="500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1447200" y="3875040"/>
                <a:ext cx="577080" cy="618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274760" y="4174200"/>
                <a:ext cx="0" cy="89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60960" y="5072040"/>
                <a:ext cx="1240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200" y="5072040"/>
                <a:ext cx="0" cy="39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89280" y="5087160"/>
                <a:ext cx="0" cy="308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607040" y="5378760"/>
                <a:ext cx="577080" cy="618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955800" y="5364000"/>
                <a:ext cx="577080" cy="617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88880" y="5425200"/>
                <a:ext cx="405360" cy="500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274760" y="5042520"/>
                <a:ext cx="0" cy="32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" name=""/>
          <p:cNvSpPr/>
          <p:nvPr/>
        </p:nvSpPr>
        <p:spPr>
          <a:xfrm>
            <a:off x="2260440" y="5316480"/>
            <a:ext cx="2241720" cy="73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bling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brother &amp; sist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53040" y="3882960"/>
            <a:ext cx="3212640" cy="657000"/>
            <a:chOff x="5153040" y="3882960"/>
            <a:chExt cx="3212640" cy="657000"/>
          </a:xfrm>
        </p:grpSpPr>
        <p:sp>
          <p:nvSpPr>
            <p:cNvPr id="60" name=""/>
            <p:cNvSpPr/>
            <p:nvPr/>
          </p:nvSpPr>
          <p:spPr>
            <a:xfrm>
              <a:off x="5153040" y="3957480"/>
              <a:ext cx="561960" cy="50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86320" y="3978000"/>
              <a:ext cx="479160" cy="400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24360" y="4178160"/>
              <a:ext cx="5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638680" y="3882960"/>
              <a:ext cx="656640" cy="65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972120" y="3975120"/>
              <a:ext cx="1393560" cy="45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ivorc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692280" y="1720800"/>
            <a:ext cx="2698560" cy="1290600"/>
            <a:chOff x="692280" y="1720800"/>
            <a:chExt cx="2698560" cy="1290600"/>
          </a:xfrm>
        </p:grpSpPr>
        <p:sp>
          <p:nvSpPr>
            <p:cNvPr id="66" name=""/>
            <p:cNvSpPr/>
            <p:nvPr/>
          </p:nvSpPr>
          <p:spPr>
            <a:xfrm>
              <a:off x="692280" y="1720800"/>
              <a:ext cx="517320" cy="39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14600" y="2484360"/>
              <a:ext cx="536400" cy="527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384560" y="17524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le (norma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371600" y="2590560"/>
              <a:ext cx="2019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emale (norma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4778280" y="1746360"/>
            <a:ext cx="3248280" cy="1422360"/>
            <a:chOff x="4778280" y="1746360"/>
            <a:chExt cx="3248280" cy="1422360"/>
          </a:xfrm>
        </p:grpSpPr>
        <p:sp>
          <p:nvSpPr>
            <p:cNvPr id="71" name=""/>
            <p:cNvSpPr/>
            <p:nvPr/>
          </p:nvSpPr>
          <p:spPr>
            <a:xfrm>
              <a:off x="5603760" y="1758960"/>
              <a:ext cx="2422800" cy="140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le (has the trai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emale (has the trai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781520" y="1746360"/>
              <a:ext cx="517680" cy="399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78280" y="2535120"/>
              <a:ext cx="536760" cy="527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5219640" y="5245200"/>
            <a:ext cx="3457800" cy="850680"/>
            <a:chOff x="5219640" y="5245200"/>
            <a:chExt cx="3457800" cy="850680"/>
          </a:xfrm>
        </p:grpSpPr>
        <p:sp>
          <p:nvSpPr>
            <p:cNvPr id="75" name=""/>
            <p:cNvSpPr/>
            <p:nvPr/>
          </p:nvSpPr>
          <p:spPr>
            <a:xfrm>
              <a:off x="6229440" y="5502240"/>
              <a:ext cx="2448000" cy="49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ceased (dead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454720" y="5441760"/>
              <a:ext cx="517680" cy="400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219640" y="5245200"/>
              <a:ext cx="1041480" cy="85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47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xampl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694400" y="1893960"/>
            <a:ext cx="614160" cy="293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362240" y="1814400"/>
            <a:ext cx="3243240" cy="3628800"/>
            <a:chOff x="1362240" y="1814400"/>
            <a:chExt cx="3243240" cy="3628800"/>
          </a:xfrm>
        </p:grpSpPr>
        <p:sp>
          <p:nvSpPr>
            <p:cNvPr id="81" name=""/>
            <p:cNvSpPr/>
            <p:nvPr/>
          </p:nvSpPr>
          <p:spPr>
            <a:xfrm>
              <a:off x="2997360" y="2104200"/>
              <a:ext cx="42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278600" y="2864160"/>
              <a:ext cx="0" cy="40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407040" y="1902960"/>
              <a:ext cx="449280" cy="48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357640" y="1814400"/>
              <a:ext cx="639720" cy="60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229200" y="2104200"/>
              <a:ext cx="0" cy="77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403640" y="3352320"/>
              <a:ext cx="449280" cy="48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811520" y="4512960"/>
              <a:ext cx="450720" cy="486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951360" y="3292560"/>
              <a:ext cx="639720" cy="600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06800" y="3247920"/>
              <a:ext cx="641160" cy="60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533680" y="2864160"/>
              <a:ext cx="175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48080" y="2850480"/>
              <a:ext cx="0" cy="40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852920" y="3580920"/>
              <a:ext cx="36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030400" y="3594600"/>
              <a:ext cx="0" cy="93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506680" y="2433960"/>
              <a:ext cx="55908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5080" y="2435400"/>
              <a:ext cx="55908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362240" y="3939480"/>
              <a:ext cx="55872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73440" y="5098320"/>
              <a:ext cx="557280" cy="34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289240" y="3939480"/>
              <a:ext cx="55872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046760" y="3968640"/>
              <a:ext cx="55872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5067360" y="2070000"/>
            <a:ext cx="3085920" cy="2502000"/>
            <a:chOff x="5067360" y="2070000"/>
            <a:chExt cx="3085920" cy="2502000"/>
          </a:xfrm>
        </p:grpSpPr>
        <p:sp>
          <p:nvSpPr>
            <p:cNvPr id="101" name=""/>
            <p:cNvSpPr/>
            <p:nvPr/>
          </p:nvSpPr>
          <p:spPr>
            <a:xfrm>
              <a:off x="5067360" y="2070000"/>
              <a:ext cx="1066680" cy="2502000"/>
            </a:xfrm>
            <a:custGeom>
              <a:avLst/>
              <a:gdLst>
                <a:gd name="textAreaLeft" fmla="*/ 0 w 1066680"/>
                <a:gd name="textAreaRight" fmla="*/ 385200 w 1066680"/>
                <a:gd name="textAreaTop" fmla="*/ 65160 h 2502000"/>
                <a:gd name="textAreaBottom" fmla="*/ 2436840 h 250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146640" y="2908440"/>
              <a:ext cx="2006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Generation Number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828800" y="5067360"/>
            <a:ext cx="4686480" cy="1216440"/>
            <a:chOff x="1828800" y="5067360"/>
            <a:chExt cx="4686480" cy="1216440"/>
          </a:xfrm>
        </p:grpSpPr>
        <p:sp>
          <p:nvSpPr>
            <p:cNvPr id="104" name=""/>
            <p:cNvSpPr/>
            <p:nvPr/>
          </p:nvSpPr>
          <p:spPr>
            <a:xfrm>
              <a:off x="1828800" y="5067360"/>
              <a:ext cx="43164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60440" y="530856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82880" y="5092560"/>
              <a:ext cx="3632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Individual Number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begin each generation with 1; number from left to righ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utosomal Recessiv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28600" y="1981080"/>
            <a:ext cx="8751960" cy="4572000"/>
            <a:chOff x="228600" y="1981080"/>
            <a:chExt cx="8751960" cy="4572000"/>
          </a:xfrm>
        </p:grpSpPr>
        <p:grpSp>
          <p:nvGrpSpPr>
            <p:cNvPr id="109" name=""/>
            <p:cNvGrpSpPr/>
            <p:nvPr/>
          </p:nvGrpSpPr>
          <p:grpSpPr>
            <a:xfrm>
              <a:off x="228600" y="1981080"/>
              <a:ext cx="8751960" cy="4572000"/>
              <a:chOff x="228600" y="1981080"/>
              <a:chExt cx="8751960" cy="4572000"/>
            </a:xfrm>
          </p:grpSpPr>
          <p:sp>
            <p:nvSpPr>
              <p:cNvPr id="110" name=""/>
              <p:cNvSpPr/>
              <p:nvPr/>
            </p:nvSpPr>
            <p:spPr>
              <a:xfrm>
                <a:off x="5638680" y="3733920"/>
                <a:ext cx="663840" cy="568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391520" y="4495680"/>
                <a:ext cx="74448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2" name=""/>
              <p:cNvGrpSpPr/>
              <p:nvPr/>
            </p:nvGrpSpPr>
            <p:grpSpPr>
              <a:xfrm>
                <a:off x="228600" y="1981080"/>
                <a:ext cx="8751960" cy="4572000"/>
                <a:chOff x="228600" y="1981080"/>
                <a:chExt cx="8751960" cy="457200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990720" y="5334120"/>
                  <a:ext cx="663480" cy="568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28600" y="3809880"/>
                  <a:ext cx="663480" cy="568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5" name=""/>
                <p:cNvGrpSpPr/>
                <p:nvPr/>
              </p:nvGrpSpPr>
              <p:grpSpPr>
                <a:xfrm>
                  <a:off x="304920" y="1981080"/>
                  <a:ext cx="8675640" cy="4572000"/>
                  <a:chOff x="304920" y="1981080"/>
                  <a:chExt cx="8675640" cy="4572000"/>
                </a:xfrm>
              </p:grpSpPr>
              <p:sp>
                <p:nvSpPr>
                  <p:cNvPr id="116" name=""/>
                  <p:cNvSpPr/>
                  <p:nvPr/>
                </p:nvSpPr>
                <p:spPr>
                  <a:xfrm>
                    <a:off x="6629400" y="6095880"/>
                    <a:ext cx="744480" cy="45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7" name=""/>
                  <p:cNvGrpSpPr/>
                  <p:nvPr/>
                </p:nvGrpSpPr>
                <p:grpSpPr>
                  <a:xfrm>
                    <a:off x="304920" y="1981080"/>
                    <a:ext cx="8675640" cy="4496040"/>
                    <a:chOff x="304920" y="1981080"/>
                    <a:chExt cx="8675640" cy="4496040"/>
                  </a:xfrm>
                </p:grpSpPr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2023920" y="3406680"/>
                      <a:ext cx="0" cy="3016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" name=""/>
                    <p:cNvSpPr/>
                    <p:nvPr/>
                  </p:nvSpPr>
                  <p:spPr>
                    <a:xfrm>
                      <a:off x="4648320" y="2133720"/>
                      <a:ext cx="663480" cy="5680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2286000" y="1981080"/>
                      <a:ext cx="712800" cy="690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2971800" y="2362320"/>
                      <a:ext cx="16765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3733920" y="2362320"/>
                      <a:ext cx="0" cy="10666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2035080" y="3406680"/>
                      <a:ext cx="39528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4413240" y="3417840"/>
                      <a:ext cx="0" cy="3016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3070080" y="3417840"/>
                      <a:ext cx="0" cy="3016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5987880" y="3417840"/>
                      <a:ext cx="0" cy="3016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8077320" y="2133720"/>
                      <a:ext cx="903240" cy="4343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" name=""/>
                    <p:cNvSpPr/>
                    <p:nvPr/>
                  </p:nvSpPr>
                  <p:spPr>
                    <a:xfrm>
                      <a:off x="2514600" y="2743200"/>
                      <a:ext cx="744480" cy="4572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4800600" y="2819520"/>
                      <a:ext cx="533520" cy="5331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6400800" y="5334120"/>
                      <a:ext cx="712800" cy="6904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7162920" y="3733920"/>
                      <a:ext cx="712800" cy="690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4038480" y="3733920"/>
                      <a:ext cx="712800" cy="690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1676520" y="3733920"/>
                      <a:ext cx="712800" cy="690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2743200" y="3733920"/>
                      <a:ext cx="663480" cy="5680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 flipH="1">
                      <a:off x="914040" y="4038480"/>
                      <a:ext cx="762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1295280" y="4038480"/>
                      <a:ext cx="0" cy="1295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6324480" y="4038480"/>
                      <a:ext cx="838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6781680" y="4038480"/>
                      <a:ext cx="0" cy="1295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5791320" y="4419720"/>
                      <a:ext cx="744480" cy="4572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4191120" y="4495680"/>
                      <a:ext cx="744480" cy="4572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2819520" y="4419720"/>
                      <a:ext cx="744480" cy="4572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1905120" y="4495680"/>
                      <a:ext cx="744480" cy="4572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304920" y="4419720"/>
                      <a:ext cx="744480" cy="4572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1066680" y="5943600"/>
                      <a:ext cx="744480" cy="4572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45" name=""/>
            <p:cNvSpPr/>
            <p:nvPr/>
          </p:nvSpPr>
          <p:spPr>
            <a:xfrm>
              <a:off x="8077320" y="2133720"/>
              <a:ext cx="903240" cy="434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I.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II.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III.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utosomal Recessiv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91520" y="4495680"/>
            <a:ext cx="744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6095880"/>
            <a:ext cx="744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2743200"/>
            <a:ext cx="744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0600" y="2819520"/>
            <a:ext cx="53352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228600" y="1981080"/>
            <a:ext cx="7647120" cy="4043520"/>
            <a:chOff x="228600" y="1981080"/>
            <a:chExt cx="7647120" cy="4043520"/>
          </a:xfrm>
        </p:grpSpPr>
        <p:sp>
          <p:nvSpPr>
            <p:cNvPr id="152" name=""/>
            <p:cNvSpPr/>
            <p:nvPr/>
          </p:nvSpPr>
          <p:spPr>
            <a:xfrm>
              <a:off x="5638680" y="3733920"/>
              <a:ext cx="663840" cy="56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990720" y="5334120"/>
              <a:ext cx="663480" cy="56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8600" y="3809880"/>
              <a:ext cx="663480" cy="56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23920" y="3406680"/>
              <a:ext cx="0" cy="30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48320" y="2133720"/>
              <a:ext cx="663480" cy="568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86000" y="1981080"/>
              <a:ext cx="712800" cy="69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971800" y="236232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733920" y="236232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035080" y="3406680"/>
              <a:ext cx="3952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413240" y="3417840"/>
              <a:ext cx="0" cy="30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070080" y="3417840"/>
              <a:ext cx="0" cy="30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987880" y="3417840"/>
              <a:ext cx="0" cy="30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5334120"/>
              <a:ext cx="712800" cy="69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2920" y="3733920"/>
              <a:ext cx="712800" cy="690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038480" y="3733920"/>
              <a:ext cx="712800" cy="690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76520" y="3733920"/>
              <a:ext cx="712800" cy="690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743200" y="3733920"/>
              <a:ext cx="663480" cy="568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914040" y="40384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295280" y="4038480"/>
              <a:ext cx="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324480" y="403848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781680" y="4038480"/>
              <a:ext cx="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5791320" y="4419720"/>
            <a:ext cx="744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4495680"/>
            <a:ext cx="744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19520" y="4419720"/>
            <a:ext cx="744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752480" y="4495680"/>
            <a:ext cx="744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4419720"/>
            <a:ext cx="744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?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5943600"/>
            <a:ext cx="744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?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utosomal Domina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609480" y="1371600"/>
            <a:ext cx="7620120" cy="5336640"/>
            <a:chOff x="609480" y="1371600"/>
            <a:chExt cx="7620120" cy="5336640"/>
          </a:xfrm>
        </p:grpSpPr>
        <p:grpSp>
          <p:nvGrpSpPr>
            <p:cNvPr id="181" name=""/>
            <p:cNvGrpSpPr/>
            <p:nvPr/>
          </p:nvGrpSpPr>
          <p:grpSpPr>
            <a:xfrm>
              <a:off x="685800" y="1371600"/>
              <a:ext cx="7319880" cy="4924440"/>
              <a:chOff x="685800" y="1371600"/>
              <a:chExt cx="7319880" cy="4924440"/>
            </a:xfrm>
          </p:grpSpPr>
          <p:sp>
            <p:nvSpPr>
              <p:cNvPr id="182" name=""/>
              <p:cNvSpPr/>
              <p:nvPr/>
            </p:nvSpPr>
            <p:spPr>
              <a:xfrm>
                <a:off x="1671480" y="2847960"/>
                <a:ext cx="573120" cy="477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3" name=""/>
              <p:cNvGrpSpPr/>
              <p:nvPr/>
            </p:nvGrpSpPr>
            <p:grpSpPr>
              <a:xfrm>
                <a:off x="685800" y="1371600"/>
                <a:ext cx="7319880" cy="4924440"/>
                <a:chOff x="685800" y="1371600"/>
                <a:chExt cx="7319880" cy="492444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5418000" y="2911320"/>
                  <a:ext cx="573120" cy="479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685800" y="2847960"/>
                  <a:ext cx="573120" cy="4777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1050840" y="2571840"/>
                  <a:ext cx="0" cy="253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314880" y="1500120"/>
                  <a:ext cx="572760" cy="4780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1278000" y="1371600"/>
                  <a:ext cx="614160" cy="5810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1868400" y="1692360"/>
                  <a:ext cx="1446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525760" y="1692360"/>
                  <a:ext cx="0" cy="898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1060560" y="2571840"/>
                  <a:ext cx="3409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3112920" y="2581200"/>
                  <a:ext cx="0" cy="254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1954080" y="2581200"/>
                  <a:ext cx="0" cy="254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470480" y="2581200"/>
                  <a:ext cx="0" cy="254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4103640" y="2847960"/>
                  <a:ext cx="614520" cy="5810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2789280" y="2847960"/>
                  <a:ext cx="614160" cy="5810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695840" y="3105000"/>
                  <a:ext cx="722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8" name=""/>
                <p:cNvGrpSpPr/>
                <p:nvPr/>
              </p:nvGrpSpPr>
              <p:grpSpPr>
                <a:xfrm>
                  <a:off x="3710160" y="3105000"/>
                  <a:ext cx="2717640" cy="1928880"/>
                  <a:chOff x="3710160" y="3105000"/>
                  <a:chExt cx="2717640" cy="1928880"/>
                </a:xfrm>
              </p:grpSpPr>
              <p:sp>
                <p:nvSpPr>
                  <p:cNvPr id="199" name=""/>
                  <p:cNvSpPr/>
                  <p:nvPr/>
                </p:nvSpPr>
                <p:spPr>
                  <a:xfrm>
                    <a:off x="4827600" y="4452840"/>
                    <a:ext cx="614520" cy="58104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5089680" y="3105000"/>
                    <a:ext cx="0" cy="1090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4038480" y="4195800"/>
                    <a:ext cx="2036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6075360" y="4195800"/>
                    <a:ext cx="0" cy="253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5089680" y="4195800"/>
                    <a:ext cx="0" cy="253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4038480" y="4195800"/>
                    <a:ext cx="0" cy="253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3710160" y="4452840"/>
                    <a:ext cx="571320" cy="47808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5813280" y="4452840"/>
                    <a:ext cx="614520" cy="581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7" name=""/>
                <p:cNvSpPr/>
                <p:nvPr/>
              </p:nvSpPr>
              <p:spPr>
                <a:xfrm>
                  <a:off x="7010280" y="4495680"/>
                  <a:ext cx="573120" cy="4780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6400800" y="4724280"/>
                  <a:ext cx="609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477120" y="5715000"/>
                  <a:ext cx="614160" cy="5810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6781680" y="4724280"/>
                  <a:ext cx="0" cy="76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5715000" y="5486400"/>
                  <a:ext cx="203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7772400" y="5486400"/>
                  <a:ext cx="0" cy="254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6781680" y="5486400"/>
                  <a:ext cx="0" cy="254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5715000" y="5486400"/>
                  <a:ext cx="0" cy="254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5410080" y="5791320"/>
                  <a:ext cx="571680" cy="4777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7391520" y="5715000"/>
                  <a:ext cx="614160" cy="5810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7" name=""/>
            <p:cNvSpPr/>
            <p:nvPr/>
          </p:nvSpPr>
          <p:spPr>
            <a:xfrm>
              <a:off x="1371600" y="1981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09480" y="33526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76720" y="2057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927520" y="34383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600200" y="33526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14800" y="3505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10080" y="34290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657600" y="49528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867280" y="5029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876920" y="5029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010280" y="5029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410080" y="62485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20040" y="62215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543800" y="62485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8431200" y="1292400"/>
            <a:ext cx="7128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utosomal Domina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685800" y="1371600"/>
            <a:ext cx="7319880" cy="4924440"/>
            <a:chOff x="685800" y="1371600"/>
            <a:chExt cx="7319880" cy="4924440"/>
          </a:xfrm>
        </p:grpSpPr>
        <p:sp>
          <p:nvSpPr>
            <p:cNvPr id="234" name=""/>
            <p:cNvSpPr/>
            <p:nvPr/>
          </p:nvSpPr>
          <p:spPr>
            <a:xfrm>
              <a:off x="1671480" y="2847960"/>
              <a:ext cx="573120" cy="477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685800" y="1371600"/>
              <a:ext cx="7319880" cy="4924440"/>
              <a:chOff x="685800" y="1371600"/>
              <a:chExt cx="7319880" cy="4924440"/>
            </a:xfrm>
          </p:grpSpPr>
          <p:sp>
            <p:nvSpPr>
              <p:cNvPr id="236" name=""/>
              <p:cNvSpPr/>
              <p:nvPr/>
            </p:nvSpPr>
            <p:spPr>
              <a:xfrm>
                <a:off x="5418000" y="2911320"/>
                <a:ext cx="573120" cy="479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85800" y="2847960"/>
                <a:ext cx="573120" cy="477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050840" y="2571840"/>
                <a:ext cx="0" cy="25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314880" y="1500120"/>
                <a:ext cx="572760" cy="478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278000" y="1371600"/>
                <a:ext cx="614160" cy="581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868400" y="1692360"/>
                <a:ext cx="1446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525760" y="1692360"/>
                <a:ext cx="0" cy="89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060560" y="2571840"/>
                <a:ext cx="3409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112920" y="2581200"/>
                <a:ext cx="0" cy="254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954080" y="2581200"/>
                <a:ext cx="0" cy="254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470480" y="2581200"/>
                <a:ext cx="0" cy="254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103640" y="2847960"/>
                <a:ext cx="614520" cy="581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789280" y="2847960"/>
                <a:ext cx="614160" cy="581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695840" y="3105000"/>
                <a:ext cx="72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0" name=""/>
              <p:cNvGrpSpPr/>
              <p:nvPr/>
            </p:nvGrpSpPr>
            <p:grpSpPr>
              <a:xfrm>
                <a:off x="3710160" y="3105000"/>
                <a:ext cx="2717640" cy="1928880"/>
                <a:chOff x="3710160" y="3105000"/>
                <a:chExt cx="2717640" cy="192888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4827600" y="4452840"/>
                  <a:ext cx="614520" cy="5810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5089680" y="3105000"/>
                  <a:ext cx="0" cy="109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4038480" y="4195800"/>
                  <a:ext cx="203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6075360" y="4195800"/>
                  <a:ext cx="0" cy="253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5089680" y="4195800"/>
                  <a:ext cx="0" cy="253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4038480" y="4195800"/>
                  <a:ext cx="0" cy="253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3710160" y="4452840"/>
                  <a:ext cx="571320" cy="4780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5813280" y="4452840"/>
                  <a:ext cx="614520" cy="5810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9" name=""/>
              <p:cNvSpPr/>
              <p:nvPr/>
            </p:nvSpPr>
            <p:spPr>
              <a:xfrm>
                <a:off x="7010280" y="4495680"/>
                <a:ext cx="573120" cy="478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400800" y="472428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477120" y="5715000"/>
                <a:ext cx="614160" cy="581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781680" y="472428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715000" y="5486400"/>
                <a:ext cx="2036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772400" y="5486400"/>
                <a:ext cx="0" cy="254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781680" y="5486400"/>
                <a:ext cx="0" cy="254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715000" y="5486400"/>
                <a:ext cx="0" cy="254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410080" y="5791320"/>
                <a:ext cx="571680" cy="477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391520" y="5715000"/>
                <a:ext cx="614160" cy="581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9" name=""/>
          <p:cNvSpPr/>
          <p:nvPr/>
        </p:nvSpPr>
        <p:spPr>
          <a:xfrm>
            <a:off x="137160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057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927520" y="3438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114800" y="3505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410080" y="3429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657600" y="4952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867280" y="5029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876920" y="5029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010280" y="5029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6248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20040" y="6221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543800" y="6248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Sex-Linked Recessiv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156600" y="5445000"/>
            <a:ext cx="0" cy="25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214200" y="1398600"/>
            <a:ext cx="8587080" cy="5280840"/>
            <a:chOff x="214200" y="1398600"/>
            <a:chExt cx="8587080" cy="5280840"/>
          </a:xfrm>
        </p:grpSpPr>
        <p:grpSp>
          <p:nvGrpSpPr>
            <p:cNvPr id="286" name=""/>
            <p:cNvGrpSpPr/>
            <p:nvPr/>
          </p:nvGrpSpPr>
          <p:grpSpPr>
            <a:xfrm>
              <a:off x="214200" y="1398600"/>
              <a:ext cx="8587080" cy="4821120"/>
              <a:chOff x="214200" y="1398600"/>
              <a:chExt cx="8587080" cy="4821120"/>
            </a:xfrm>
          </p:grpSpPr>
          <p:sp>
            <p:nvSpPr>
              <p:cNvPr id="287" name=""/>
              <p:cNvSpPr/>
              <p:nvPr/>
            </p:nvSpPr>
            <p:spPr>
              <a:xfrm>
                <a:off x="1123920" y="4446720"/>
                <a:ext cx="614520" cy="581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40040" y="2598840"/>
                <a:ext cx="0" cy="25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560680" y="2874960"/>
                <a:ext cx="573120" cy="477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513400" y="2857680"/>
                <a:ext cx="573120" cy="479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73040" y="2900520"/>
                <a:ext cx="573120" cy="477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203720" y="1527120"/>
                <a:ext cx="573120" cy="477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166840" y="1398600"/>
                <a:ext cx="614520" cy="581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757600" y="1719360"/>
                <a:ext cx="1446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414600" y="1719360"/>
                <a:ext cx="0" cy="89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949400" y="2598840"/>
                <a:ext cx="3894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002120" y="2608200"/>
                <a:ext cx="0" cy="254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843280" y="2608200"/>
                <a:ext cx="0" cy="254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830920" y="2593800"/>
                <a:ext cx="0" cy="254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620720" y="2847960"/>
                <a:ext cx="614520" cy="581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447920" y="3146400"/>
                <a:ext cx="0" cy="109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61880" y="4224240"/>
                <a:ext cx="2036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487600" y="4237200"/>
                <a:ext cx="0" cy="25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446120" y="4237200"/>
                <a:ext cx="0" cy="25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76280" y="4237200"/>
                <a:ext cx="0" cy="25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14200" y="4519440"/>
                <a:ext cx="571680" cy="478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197080" y="4494240"/>
                <a:ext cx="614520" cy="581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730680" y="2868480"/>
                <a:ext cx="573120" cy="478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036800" y="3133800"/>
                <a:ext cx="591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819840" y="2819520"/>
                <a:ext cx="614520" cy="581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080040" y="3063960"/>
                <a:ext cx="72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391520" y="464832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410080" y="4419720"/>
                <a:ext cx="614520" cy="581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696080" y="464832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477120" y="5410080"/>
                <a:ext cx="203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477120" y="5410080"/>
                <a:ext cx="0" cy="254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781680" y="4419720"/>
                <a:ext cx="571680" cy="477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172200" y="5638680"/>
                <a:ext cx="614520" cy="581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477120" y="3097080"/>
                <a:ext cx="0" cy="109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V="1">
                <a:off x="5715000" y="4191120"/>
                <a:ext cx="135396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086600" y="4191120"/>
                <a:ext cx="0" cy="25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715000" y="4191120"/>
                <a:ext cx="0" cy="25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8001000" y="4419720"/>
                <a:ext cx="614520" cy="581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8229600" y="5638680"/>
                <a:ext cx="571680" cy="478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8534520" y="5410080"/>
                <a:ext cx="0" cy="254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6" name=""/>
            <p:cNvSpPr/>
            <p:nvPr/>
          </p:nvSpPr>
          <p:spPr>
            <a:xfrm>
              <a:off x="3813120" y="3429000"/>
              <a:ext cx="41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31720" y="3425760"/>
              <a:ext cx="4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554800" y="5033880"/>
              <a:ext cx="44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610240" y="3425760"/>
              <a:ext cx="51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853320" y="4933800"/>
              <a:ext cx="40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55600" y="5087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282160" y="6153120"/>
              <a:ext cx="47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689200" y="3402000"/>
              <a:ext cx="43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348080" y="2060640"/>
              <a:ext cx="4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932520" y="3479760"/>
              <a:ext cx="41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300400" y="2070000"/>
              <a:ext cx="39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708200" y="3468600"/>
              <a:ext cx="49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121600" y="5029200"/>
              <a:ext cx="41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315120" y="6219720"/>
              <a:ext cx="45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320920" y="5105520"/>
              <a:ext cx="49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211400" y="5083200"/>
              <a:ext cx="4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Sex-Linked Recessiv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9156600" y="5445000"/>
            <a:ext cx="0" cy="25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214200" y="1398600"/>
            <a:ext cx="8587080" cy="4821120"/>
            <a:chOff x="214200" y="1398600"/>
            <a:chExt cx="8587080" cy="4821120"/>
          </a:xfrm>
        </p:grpSpPr>
        <p:sp>
          <p:nvSpPr>
            <p:cNvPr id="345" name=""/>
            <p:cNvSpPr/>
            <p:nvPr/>
          </p:nvSpPr>
          <p:spPr>
            <a:xfrm>
              <a:off x="1123920" y="4446720"/>
              <a:ext cx="614520" cy="581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940040" y="2598840"/>
              <a:ext cx="0" cy="25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560680" y="2874960"/>
              <a:ext cx="573120" cy="477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513400" y="2857680"/>
              <a:ext cx="573120" cy="479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73040" y="2900520"/>
              <a:ext cx="573120" cy="477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203720" y="1527120"/>
              <a:ext cx="573120" cy="477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166840" y="1398600"/>
              <a:ext cx="614520" cy="581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757600" y="1719360"/>
              <a:ext cx="14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14600" y="1719360"/>
              <a:ext cx="0" cy="89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949400" y="2598840"/>
              <a:ext cx="389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002120" y="2608200"/>
              <a:ext cx="0" cy="25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843280" y="2608200"/>
              <a:ext cx="0" cy="25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830920" y="2593800"/>
              <a:ext cx="0" cy="25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620720" y="2847960"/>
              <a:ext cx="614520" cy="581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447920" y="3146400"/>
              <a:ext cx="0" cy="109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61880" y="4224240"/>
              <a:ext cx="203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487600" y="4237200"/>
              <a:ext cx="0" cy="25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446120" y="4237200"/>
              <a:ext cx="0" cy="25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76280" y="4237200"/>
              <a:ext cx="0" cy="25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14200" y="4519440"/>
              <a:ext cx="571680" cy="478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197080" y="4494240"/>
              <a:ext cx="614520" cy="581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730680" y="2868480"/>
              <a:ext cx="573120" cy="478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036800" y="3133800"/>
              <a:ext cx="59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819840" y="2819520"/>
              <a:ext cx="614520" cy="581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080040" y="3063960"/>
              <a:ext cx="72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391520" y="46483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410080" y="4419720"/>
              <a:ext cx="614520" cy="581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696080" y="46483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477120" y="5410080"/>
              <a:ext cx="203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477120" y="5410080"/>
              <a:ext cx="0" cy="25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781680" y="4419720"/>
              <a:ext cx="571680" cy="477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172200" y="5638680"/>
              <a:ext cx="614520" cy="581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477120" y="3097080"/>
              <a:ext cx="0" cy="109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5715000" y="4191120"/>
              <a:ext cx="135396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086600" y="4191120"/>
              <a:ext cx="0" cy="25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715000" y="4191120"/>
              <a:ext cx="0" cy="25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001000" y="4419720"/>
              <a:ext cx="614520" cy="581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229600" y="5638680"/>
              <a:ext cx="571680" cy="478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534520" y="5410080"/>
              <a:ext cx="0" cy="25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3625920" y="3429000"/>
            <a:ext cx="10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84120" y="3425760"/>
            <a:ext cx="8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432400" y="5033880"/>
            <a:ext cx="10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450040" y="3425760"/>
            <a:ext cx="10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32720" y="4948200"/>
            <a:ext cx="10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5087880"/>
            <a:ext cx="10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067600" y="6153120"/>
            <a:ext cx="10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14600" y="3402000"/>
            <a:ext cx="8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146480" y="2075040"/>
            <a:ext cx="8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919920" y="347976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030400" y="203040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519200" y="346860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853400" y="502920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113520" y="623412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133720" y="5105520"/>
            <a:ext cx="104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049400" y="508320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5T00:05:00Z</dcterms:created>
  <dc:creator>Robert Burke</dc:creator>
  <dc:description/>
  <dc:language>en-US</dc:language>
  <cp:lastModifiedBy>Plano ISD</cp:lastModifiedBy>
  <dcterms:modified xsi:type="dcterms:W3CDTF">2004-11-29T22:41:32Z</dcterms:modified>
  <cp:revision>13</cp:revision>
  <dc:subject/>
  <dc:title>Pedigrees</dc:title>
</cp:coreProperties>
</file>